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CC6-2392-4F9D-873C-A406EFA5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B8A-C077-4336-AB80-65859CF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044-19E2-4FEB-A341-7AD33805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752-2D6C-4775-A681-B7E1834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CF3-82E2-4708-8171-92B352E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EA6-92E1-4C5C-82CA-0C592DEF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062-8664-4BB3-80AB-5D99582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F65-FECD-484E-AA30-71F05AB6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54B-6AD2-45E4-8451-1FD4D25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65F-186B-4D28-9048-673E842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96A-D50A-4B93-88F3-EE618B7C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87F-4849-4E5B-BE8E-4D90298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6D3-94A4-462D-AEE6-51A4F6F7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עץ  הנדיב 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לים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-1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עם /  אוסף /  עלים /  כתרים /  יער / גזע /  מתנדנד /  ענפים  /  מחבואים /  מתעיף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הם   היו  משחקים    ב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מחב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60962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שהילד היה 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מתעיף,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הוא היה נרד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צלו של  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42861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חת  היה  ע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פע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467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ל יום הילד היה  בא  ו_ _ _ _  א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_ _ _ _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וסף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4000680" cy="373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600880" y="2266920"/>
            <a:ext cx="3543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עושה  מהם_ _ _ _ 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ומשחק במלך ה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_ _ _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59600" y="2743200"/>
            <a:ext cx="2612880" cy="382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67040" cy="428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43600" y="2975040"/>
            <a:ext cx="15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כתר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0400" y="1787400"/>
            <a:ext cx="472428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רוב  עצים  לא  רוא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0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היה מטפס  על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גז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2400" y="1523880"/>
            <a:ext cx="2797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_ _ _ _ _ _   על  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מתנדנ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ענפים</a:t>
            </a: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8196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הם היו  משחקים 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_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חבוא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507996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866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שהילד היה  </a:t>
            </a:r>
            <a:r>
              <a:rPr b="0" lang="he-IL" sz="5400" spc="-1" strike="noStrike">
                <a:solidFill>
                  <a:srgbClr val="009999"/>
                </a:solidFill>
                <a:latin typeface="Arial"/>
              </a:rPr>
              <a:t>_ _ _ _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היה נרדם  בצלו  של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תעיף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2381400"/>
            <a:ext cx="42861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פע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אחת  היה  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467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כל יום הילד היה  בא  ו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אוסף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את ה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העץ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ל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409840"/>
            <a:ext cx="4762440" cy="4448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00880" y="2266920"/>
            <a:ext cx="3543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עושה  מהם  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כתרים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ומשחק במלך ה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יער</a:t>
            </a: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ע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59600" y="2743200"/>
            <a:ext cx="2612880" cy="382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67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היה מטפס  על  ה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גזע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92400" y="1523880"/>
            <a:ext cx="2797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מתנדנד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על  ה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נפ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דנד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NE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368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ודניק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DN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DGE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5240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33:53Z</dcterms:created>
  <dc:creator>Preferred Customer</dc:creator>
  <dc:description/>
  <dc:language>en-US</dc:language>
  <cp:lastModifiedBy>aschlezinger</cp:lastModifiedBy>
  <dcterms:modified xsi:type="dcterms:W3CDTF">2010-12-06T19:51:58Z</dcterms:modified>
  <cp:revision>3</cp:revision>
  <dc:subject/>
  <dc:title>העץ  הנדיב    מילים  1-10 </dc:title>
</cp:coreProperties>
</file>